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60DB-1C58-42B7-BFBF-DE842DFC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0CF1-6ABA-45CB-9EFC-597932DA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8669-14DD-4CD0-A9B4-FB4C19E9A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0D93-600F-4964-8F84-BD5C889FD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D2989-A56D-489F-82F0-034F936B9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12E8D-DC4C-4394-AF80-E6C88054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AA336-DC37-4ECC-8640-B7A89CCF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0F215-A70F-4D6A-8B4B-26C1542D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7AC20-6641-4B59-9BE5-C0403B5B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F0876-7A4D-4905-8FAD-7C9D3BF9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5AB00-EDB7-48EA-9A70-CA72357E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2C7B-1FB5-4F00-897E-76E49D29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F4D59-BE42-49D8-B7A0-720A380A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3A47E-9C2C-477F-BA67-5517A9CB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C2F81-8AEC-4EFF-8865-61A159C5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2F28F-5736-4034-B6BB-3F868519E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8BA55-6C3E-4235-8C6F-8C2011411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D078-044E-4413-8812-9FB8F372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9F81-3362-4793-851D-D20C4F79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61CC-6DE9-4158-A210-C0542709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28F1-1654-457D-9399-B8C6E3C1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A75D-1245-45C6-B8C8-812852DB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6F25-A922-43C9-84D4-5F11DF1A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55E5-1B26-415B-B28F-3472F063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A45F-9F2C-4051-8E28-1EB4AF61E8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5DC0-875B-4284-9BE2-2C23ED4CB6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birthday.wz.cz/salvadordali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Comic Sans MS"/>
              </a:rPr>
              <a:t>ŠPANĚLSKO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5220000" cy="3480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156360" y="2637000"/>
            <a:ext cx="248112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Comic Sans MS"/>
              </a:rPr>
              <a:t>DOPRAVA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Jízda vpra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ezinárodní letiště: Palma de Mallor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adr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Barcelo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Železnice: 14 189 k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ilnice: 663 795 k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Přístavy: Barcelona, Bilbao, Cadiz, Cartagena, Malag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987640" y="4581360"/>
            <a:ext cx="435312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Comic Sans MS"/>
              </a:rPr>
              <a:t>CESTOVNÍ RUCH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omic Sans MS"/>
              </a:rPr>
              <a:t>Turisticky oblíbená zem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omic Sans MS"/>
              </a:rPr>
              <a:t>Costa Del S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omic Sans MS"/>
              </a:rPr>
              <a:t>Costa Bra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omic Sans MS"/>
              </a:rPr>
              <a:t>Costa Do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omic Sans MS"/>
              </a:rPr>
              <a:t>Costa Del Mares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85800" y="4419720"/>
            <a:ext cx="3467160" cy="22096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067360" y="1219320"/>
            <a:ext cx="375588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Comic Sans MS"/>
              </a:rPr>
              <a:t>HISTORI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3e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mic Sans MS"/>
              </a:rPr>
              <a:t>Rok 1479 - Španělsko sjednoceno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3e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cs-CZ" sz="2200" spc="-1" strike="noStrike">
                <a:solidFill>
                  <a:srgbClr val="ffffff"/>
                </a:solidFill>
                <a:latin typeface="Comic Sans MS"/>
              </a:rPr>
              <a:t>15. stol. -  období velkých zámořských objevů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3e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mic Sans MS"/>
              </a:rPr>
              <a:t>Později světová velmoc, ,,Země, kde slunce nezapadá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3e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mic Sans MS"/>
              </a:rPr>
              <a:t>Rok 1588 - vítězí Angličané nad neporazitelným Španělským vodstv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3e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mic Sans MS"/>
              </a:rPr>
              <a:t>Další porážky v 17. století ztrácí Španělsko své velmocenské postaven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3e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cs-CZ" sz="2200" spc="-1" strike="noStrike">
                <a:solidFill>
                  <a:srgbClr val="ffffff"/>
                </a:solidFill>
                <a:latin typeface="Comic Sans MS"/>
              </a:rPr>
              <a:t>Po napoleonských válkách se rozpadá španělská koloniální říše v Latinské Ameri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3e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mic Sans MS"/>
              </a:rPr>
              <a:t>rok 1898 -  probíhá španělsko-americká válka, Španělsko ztrácí Kubu, Portoriko a Filipíny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3e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mic Sans MS"/>
              </a:rPr>
              <a:t>1936-1939 občanská válka, k  moci se dostává generál Franco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3e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mic Sans MS"/>
              </a:rPr>
              <a:t>1975 - králem se stává Juan Carl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mic Sans MS"/>
              </a:rPr>
              <a:t>1986 - Španělsko vstupuje do EU. </a:t>
            </a:r>
            <a:br>
              <a:rPr sz="2200"/>
            </a:b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578640" y="4724280"/>
            <a:ext cx="165744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Comic Sans MS"/>
              </a:rPr>
              <a:t>ZNÁMÉ OSOBNOSTI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e3e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ffffff"/>
                </a:solidFill>
                <a:uFillTx/>
                <a:latin typeface="Comic Sans MS"/>
              </a:rPr>
              <a:t>Salvador Dalí ve Figueres</a:t>
            </a:r>
            <a:r>
              <a:rPr b="0" lang="cs-CZ" sz="2200" spc="-1" strike="noStrike">
                <a:solidFill>
                  <a:srgbClr val="ffffff"/>
                </a:solidFill>
                <a:latin typeface="Comic Sans MS"/>
              </a:rPr>
              <a:t> – uměle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e3e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ffffff"/>
                </a:solidFill>
                <a:uFillTx/>
                <a:latin typeface="Comic Sans MS"/>
              </a:rPr>
              <a:t>Salvador Dalí y Domenech</a:t>
            </a:r>
            <a:r>
              <a:rPr b="1" lang="cs-CZ" sz="2200" spc="-1" strike="noStrike">
                <a:solidFill>
                  <a:srgbClr val="ffffff"/>
                </a:solidFill>
                <a:latin typeface="Comic Sans MS"/>
              </a:rPr>
              <a:t> [dalí i domenek] -</a:t>
            </a:r>
            <a:r>
              <a:rPr b="0" lang="cs-CZ" sz="2200" spc="-1" strike="noStrike">
                <a:solidFill>
                  <a:srgbClr val="ffffff"/>
                </a:solidFill>
                <a:latin typeface="Comic Sans MS"/>
              </a:rPr>
              <a:t> (plným jménem Salvador Domingo Felipe Jacinto Dalí Domenech), španělský </a:t>
            </a:r>
            <a:r>
              <a:rPr b="0" lang="cs-CZ" sz="2200" spc="-1" strike="noStrike" u="sng">
                <a:solidFill>
                  <a:srgbClr val="ffffff"/>
                </a:solidFill>
                <a:uFillTx/>
                <a:latin typeface="Comic Sans MS"/>
              </a:rPr>
              <a:t>surrealistický</a:t>
            </a:r>
            <a:r>
              <a:rPr b="0" lang="cs-CZ" sz="2200" spc="-1" strike="noStrike">
                <a:solidFill>
                  <a:srgbClr val="ffffff"/>
                </a:solidFill>
                <a:latin typeface="Comic Sans MS"/>
              </a:rPr>
              <a:t> malíř, grafik, výtvarný kritik a spisovatel, se narodil 11. května 1904 v katalánské vesnici Figueras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e3e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ffffff"/>
                </a:solidFill>
                <a:uFillTx/>
                <a:latin typeface="Comic Sans MS"/>
              </a:rPr>
              <a:t>Antonio Gaudí y Cornet</a:t>
            </a:r>
            <a:r>
              <a:rPr b="1" lang="cs-CZ" sz="2200" spc="-1" strike="noStrike">
                <a:solidFill>
                  <a:srgbClr val="ffffff"/>
                </a:solidFill>
                <a:latin typeface="Comic Sans MS"/>
              </a:rPr>
              <a:t> [gaudy i kornet] -</a:t>
            </a:r>
            <a:r>
              <a:rPr b="0" lang="cs-CZ" sz="2200" spc="-1" strike="noStrike">
                <a:solidFill>
                  <a:srgbClr val="ffffff"/>
                </a:solidFill>
                <a:latin typeface="Comic Sans MS"/>
              </a:rPr>
              <a:t> španělský architekt a průmyslový výtvarník, se narodil 25. června 1852 ve měste Reus v Katalánsku, jako syn kováře Francesca Gaudí i Serra a Antónie Cornet i Bertranovej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e3e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ffffff"/>
                </a:solidFill>
                <a:uFillTx/>
                <a:latin typeface="Comic Sans MS"/>
              </a:rPr>
              <a:t>Federico García Lorca</a:t>
            </a:r>
            <a:r>
              <a:rPr b="1" lang="cs-CZ" sz="2200" spc="-1" strike="noStrike">
                <a:solidFill>
                  <a:srgbClr val="ffffff"/>
                </a:solidFill>
                <a:latin typeface="Comic Sans MS"/>
              </a:rPr>
              <a:t> [garsja lorka] - </a:t>
            </a:r>
            <a:r>
              <a:rPr b="0" lang="cs-CZ" sz="2200" spc="-1" strike="noStrike">
                <a:solidFill>
                  <a:srgbClr val="ffffff"/>
                </a:solidFill>
                <a:latin typeface="Comic Sans MS"/>
              </a:rPr>
              <a:t> španělský básník, dramatik, malíř a hudebník, se narodil 5. června 1898 ve Fuente Vaqueros poblíž Granady v rodině statkáře.</a:t>
            </a:r>
            <a:r>
              <a:rPr b="0" lang="cs-CZ" sz="2200" spc="-1" strike="noStrike">
                <a:solidFill>
                  <a:srgbClr val="ff99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43800" y="2362320"/>
            <a:ext cx="700200" cy="1079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8305920" y="3733920"/>
            <a:ext cx="691920" cy="10792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8244000" y="5445000"/>
            <a:ext cx="67932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86868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00"/>
                </a:solidFill>
                <a:latin typeface="Comic Sans MS"/>
              </a:rPr>
              <a:t>  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Comic Sans MS"/>
              </a:rPr>
              <a:t>Pablo Piccasso</a:t>
            </a:r>
            <a:r>
              <a:rPr b="1" lang="cs-CZ" sz="2400" spc="-1" strike="noStrike">
                <a:solidFill>
                  <a:srgbClr val="ffffff"/>
                </a:solidFill>
                <a:latin typeface="Comic Sans MS"/>
              </a:rPr>
              <a:t> - malí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Comic Sans MS"/>
              </a:rPr>
              <a:t>Francisco José de Goya y Lucientes</a:t>
            </a:r>
            <a:r>
              <a:rPr b="1" lang="cs-CZ" sz="2400" spc="-1" strike="noStrike">
                <a:solidFill>
                  <a:srgbClr val="ffffff"/>
                </a:solidFill>
                <a:latin typeface="Comic Sans MS"/>
              </a:rPr>
              <a:t> – (30.3.1746 –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              </a:t>
            </a:r>
            <a:r>
              <a:rPr b="1" lang="cs-CZ" sz="2400" spc="-1" strike="noStrike">
                <a:solidFill>
                  <a:srgbClr val="ffffff"/>
                </a:solidFill>
                <a:latin typeface="Comic Sans MS"/>
              </a:rPr>
              <a:t>16.4.182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Comic Sans MS"/>
              </a:rPr>
              <a:t> 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Comic Sans MS"/>
              </a:rPr>
              <a:t>Goya -Francisco José de Goya y Lucientes</a:t>
            </a:r>
            <a:r>
              <a:rPr b="1" lang="cs-CZ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omic Sans MS"/>
              </a:rPr>
              <a:t>(30. březen 1746, Fuendetodos – 16. duben 1828, Bordeau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34120" y="3505320"/>
            <a:ext cx="1885680" cy="2514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676520" y="3429000"/>
            <a:ext cx="210348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Comic Sans MS"/>
              </a:rPr>
              <a:t>STÁTNÍ ZŘÍZENÍ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omic Sans MS"/>
              </a:rPr>
              <a:t>Španělsko je konstituční monarchi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Comic Sans MS"/>
              </a:rPr>
              <a:t>Hlava státu a ozbrojených sil  král je v současné době Juan Carlos -  jmenuje a odvolává předsedu vlády a ministry, zákonodárným orgánem je dvoukomorový parlament (Cortes Generales), který tvoří poslanecká sněmovna a sená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omic Sans MS"/>
              </a:rPr>
              <a:t>Každá ze sedmnácti oblastí má svůj parlament a vlád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omic Sans MS"/>
              </a:rPr>
              <a:t>Dílčí jednotkou jsou provincie a dále obce</a:t>
            </a:r>
            <a:br>
              <a:rPr sz="2400"/>
            </a:br>
            <a:br>
              <a:rPr sz="2400"/>
            </a:b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771640" y="4518000"/>
            <a:ext cx="335772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Comic Sans MS"/>
              </a:rPr>
              <a:t>CENÍK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33520" y="649440"/>
          <a:ext cx="8229600" cy="6208560"/>
        </p:xfrm>
        <a:graphic>
          <a:graphicData uri="http://schemas.openxmlformats.org/drawingml/2006/table">
            <a:tbl>
              <a:tblPr/>
              <a:tblGrid>
                <a:gridCol w="2882880"/>
                <a:gridCol w="1514520"/>
                <a:gridCol w="1658880"/>
                <a:gridCol w="2173320"/>
              </a:tblGrid>
              <a:tr h="723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rientační ceny vybraných potravin a služeb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ěna Euro (€): 1 € = 32,16Kč (kurz k 15.4.2004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zboží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nožství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ena v Eur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ena v korunách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hléb bílý, vek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 kg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,8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7,4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alená vod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,5 l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,3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,9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ýry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0 g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,70 – 1,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2,50 - 4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vocný jogur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25 g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d 0,2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d 8,1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vín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 l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d 0,9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d 31,9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iv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,5 l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,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6,1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zmrzlina (balená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 k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,95 – 1,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0,60 – 41,9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ajčat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 kg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,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6,1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apriky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 kg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,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4,7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roskv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 kg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 – 3,1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4,40 – 101,3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86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457200" y="380880"/>
          <a:ext cx="8229600" cy="5189760"/>
        </p:xfrm>
        <a:graphic>
          <a:graphicData uri="http://schemas.openxmlformats.org/drawingml/2006/table">
            <a:tbl>
              <a:tblPr/>
              <a:tblGrid>
                <a:gridCol w="2890800"/>
                <a:gridCol w="1511280"/>
                <a:gridCol w="1719360"/>
                <a:gridCol w="210816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hroznové vín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 kg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,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5,1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káva v kavárně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,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8,3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evné men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 -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4,40 – 19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třední men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 - 1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60,80 – 482,4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ohle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,25 - 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,10 – 32,2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známka na pohle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,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6,1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onájem lehátka na pláži nebo slunečník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 de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6,5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onájem trezoru v hotel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 dní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18,1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477120" y="5334120"/>
            <a:ext cx="199692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Comic Sans MS"/>
              </a:rPr>
              <a:t>SLOVNÍK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jak se máte?  -  ¿cómo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está ust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domov  -  hoga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učit se  -  apr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číst  -  le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hrát si  -  juguetea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město -  ciuda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vesnice  -  al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ahoj  -  cia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ahoj!  -  ¡ahu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ahoj  -  ¡hola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dobrý den  -  buenos dí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nashledanou  -  hasta la vi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škola  -  escuel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žák  -  alumn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chléb  -  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voda  -  agu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maminka  -  mam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tatínek  -  pap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bratr  -  herman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sestra  -  s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203640" y="3645000"/>
            <a:ext cx="142704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Comic Sans MS"/>
              </a:rPr>
              <a:t>ZAJÍMAVOSTI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Evropské obyvatelstvo ho zná především jako turistickou obla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Je známé býčími zápasy, kytarou, sýrem manchego, olivami, vínem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omic Sans MS"/>
              </a:rPr>
              <a:t>Nejnižší bod: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 Atlantský oceán - 0 m n. 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cs-CZ" sz="2400" spc="-1" strike="noStrike">
                <a:solidFill>
                  <a:srgbClr val="ffffff"/>
                </a:solidFill>
                <a:latin typeface="Comic Sans MS"/>
              </a:rPr>
              <a:t>Architektura: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 Katedrála – Santiago de Compostela- poutní mí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omic Sans MS"/>
              </a:rPr>
              <a:t>                   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Klášter - Montserrat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                           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Chrám  Sagrada de Familia (Barcelon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                           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Dům mušlí Salaman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                           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Granada – Alhambra (Maurský palá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                           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Cordoba – Meši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                           </a:t>
            </a:r>
            <a:r>
              <a:rPr b="0" lang="cs-CZ" sz="2400" spc="-1" strike="noStrike">
                <a:solidFill>
                  <a:srgbClr val="ffffff"/>
                </a:solidFill>
                <a:latin typeface="Comic Sans MS"/>
              </a:rPr>
              <a:t>Sevilla – katedrá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620120" y="990720"/>
            <a:ext cx="1341360" cy="132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OBECNÉ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lavní město: Madrid ( 3 044 000 obyv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riginální název: Espan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ezinárodní zkratka: ES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ěna: eu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Členství v mezinárodních organizacích: EU, NATO, OSN, CE, OBSE, OEC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Ekonomika: vyspělá a bohat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9900"/>
                </a:solidFill>
                <a:latin typeface="Comic Sans MS"/>
              </a:rPr>
              <a:t>  </a:t>
            </a:r>
            <a:r>
              <a:rPr b="1" lang="cs-CZ" sz="2200" spc="-1" strike="noStrike">
                <a:solidFill>
                  <a:srgbClr val="ffffff"/>
                </a:solidFill>
                <a:latin typeface="Comic Sans MS"/>
              </a:rPr>
              <a:t>Madrid</a:t>
            </a:r>
            <a:r>
              <a:rPr b="0" lang="cs-CZ" sz="2200" spc="-1" strike="noStrike">
                <a:solidFill>
                  <a:srgbClr val="ffffff"/>
                </a:solidFill>
                <a:latin typeface="Comic Sans MS"/>
              </a:rPr>
              <a:t> (Palacio Real, palác El Prado),          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cs-CZ" sz="2200" spc="-1" strike="noStrike">
                <a:solidFill>
                  <a:srgbClr val="ffffff"/>
                </a:solidFill>
                <a:latin typeface="Comic Sans MS"/>
              </a:rPr>
              <a:t>Barcelona</a:t>
            </a:r>
            <a:r>
              <a:rPr b="0" lang="cs-CZ" sz="2200" spc="-1" strike="noStrike">
                <a:solidFill>
                  <a:srgbClr val="ffffff"/>
                </a:solidFill>
                <a:latin typeface="Comic Sans MS"/>
              </a:rPr>
              <a:t> (Sagrada Familia-architekt Gaudí,  olympijská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Comic Sans MS"/>
              </a:rPr>
              <a:t>                    </a:t>
            </a:r>
            <a:r>
              <a:rPr b="0" lang="cs-CZ" sz="2200" spc="-1" strike="noStrike">
                <a:solidFill>
                  <a:srgbClr val="ffffff"/>
                </a:solidFill>
                <a:latin typeface="Comic Sans MS"/>
              </a:rPr>
              <a:t>vesnice, třída Rambla de les Flors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cs-CZ" sz="2200" spc="-1" strike="noStrike">
                <a:solidFill>
                  <a:srgbClr val="ffffff"/>
                </a:solidFill>
                <a:latin typeface="Comic Sans MS"/>
              </a:rPr>
              <a:t>Toledo</a:t>
            </a:r>
            <a:r>
              <a:rPr b="0" lang="cs-CZ" sz="2200" spc="-1" strike="noStrike">
                <a:solidFill>
                  <a:srgbClr val="ffffff"/>
                </a:solidFill>
                <a:latin typeface="Comic Sans MS"/>
              </a:rPr>
              <a:t> (živoucí muzeum španělských dějin-mešity, synagogy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Comic Sans MS"/>
              </a:rPr>
              <a:t>              </a:t>
            </a:r>
            <a:r>
              <a:rPr b="0" lang="cs-CZ" sz="2200" spc="-1" strike="noStrike">
                <a:solidFill>
                  <a:srgbClr val="ffffff"/>
                </a:solidFill>
                <a:latin typeface="Comic Sans MS"/>
              </a:rPr>
              <a:t>a lázně, výroba nožů a mečů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cs-CZ" sz="2200" spc="-1" strike="noStrike">
                <a:solidFill>
                  <a:srgbClr val="ffffff"/>
                </a:solidFill>
                <a:latin typeface="Comic Sans MS"/>
              </a:rPr>
              <a:t>Valencia</a:t>
            </a:r>
            <a:r>
              <a:rPr b="0" lang="cs-CZ" sz="2200" spc="-1" strike="noStrike">
                <a:solidFill>
                  <a:srgbClr val="ffffff"/>
                </a:solidFill>
                <a:latin typeface="Comic Sans MS"/>
              </a:rPr>
              <a:t> (katedrála, Lljotja-někdejší burza hedvábí, IVAM-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Comic Sans MS"/>
              </a:rPr>
              <a:t>                 </a:t>
            </a:r>
            <a:r>
              <a:rPr b="0" lang="cs-CZ" sz="2200" spc="-1" strike="noStrike">
                <a:solidFill>
                  <a:srgbClr val="ffffff"/>
                </a:solidFill>
                <a:latin typeface="Comic Sans MS"/>
              </a:rPr>
              <a:t>ústav moderního umění, technické a mořské     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Comic Sans MS"/>
              </a:rPr>
              <a:t>                 </a:t>
            </a:r>
            <a:r>
              <a:rPr b="0" lang="cs-CZ" sz="2200" spc="-1" strike="noStrike">
                <a:solidFill>
                  <a:srgbClr val="ffffff"/>
                </a:solidFill>
                <a:latin typeface="Comic Sans MS"/>
              </a:rPr>
              <a:t>muzeum, planetárium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cs-CZ" sz="2200" spc="-1" strike="noStrike">
                <a:solidFill>
                  <a:srgbClr val="ffffff"/>
                </a:solidFill>
                <a:latin typeface="Comic Sans MS"/>
              </a:rPr>
              <a:t>Granada</a:t>
            </a:r>
            <a:r>
              <a:rPr b="0" lang="cs-CZ" sz="2200" spc="-1" strike="noStrike">
                <a:solidFill>
                  <a:srgbClr val="ffffff"/>
                </a:solidFill>
                <a:latin typeface="Comic Sans MS"/>
              </a:rPr>
              <a:t> (paláce ze 14.a 15. století, Sacramont-cikánská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Comic Sans MS"/>
              </a:rPr>
              <a:t>                  </a:t>
            </a:r>
            <a:r>
              <a:rPr b="0" lang="cs-CZ" sz="2200" spc="-1" strike="noStrike">
                <a:solidFill>
                  <a:srgbClr val="ffffff"/>
                </a:solidFill>
                <a:latin typeface="Comic Sans MS"/>
              </a:rPr>
              <a:t>čtvrť s příbytky v jeskyních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cs-CZ" sz="2200" spc="-1" strike="noStrike">
                <a:solidFill>
                  <a:srgbClr val="ffffff"/>
                </a:solidFill>
                <a:latin typeface="Comic Sans MS"/>
              </a:rPr>
              <a:t>Sevilla</a:t>
            </a:r>
            <a:r>
              <a:rPr b="0" lang="cs-CZ" sz="2200" spc="-1" strike="noStrike">
                <a:solidFill>
                  <a:srgbClr val="ffffff"/>
                </a:solidFill>
                <a:latin typeface="Comic Sans MS"/>
              </a:rPr>
              <a:t> (Giralda-mešita s minaretem,Alcázar-někdejší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Comic Sans MS"/>
              </a:rPr>
              <a:t>               </a:t>
            </a:r>
            <a:r>
              <a:rPr b="0" lang="cs-CZ" sz="2200" spc="-1" strike="noStrike">
                <a:solidFill>
                  <a:srgbClr val="ffffff"/>
                </a:solidFill>
                <a:latin typeface="Comic Sans MS"/>
              </a:rPr>
              <a:t>rezidence emírů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cs-CZ" sz="2200" spc="-1" strike="noStrike">
                <a:solidFill>
                  <a:srgbClr val="ffffff"/>
                </a:solidFill>
                <a:latin typeface="Comic Sans MS"/>
              </a:rPr>
              <a:t>Baleárské ostrovy</a:t>
            </a:r>
            <a:r>
              <a:rPr b="0" lang="cs-CZ" sz="2200" spc="-1" strike="noStrike">
                <a:solidFill>
                  <a:srgbClr val="ffffff"/>
                </a:solidFill>
                <a:latin typeface="Comic Sans MS"/>
              </a:rPr>
              <a:t> (Mallorca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cs-CZ" sz="2200" spc="-1" strike="noStrike">
                <a:solidFill>
                  <a:srgbClr val="ffffff"/>
                </a:solidFill>
                <a:latin typeface="Comic Sans MS"/>
              </a:rPr>
              <a:t>Morella </a:t>
            </a:r>
            <a:r>
              <a:rPr b="0" lang="cs-CZ" sz="2200" spc="-1" strike="noStrike">
                <a:solidFill>
                  <a:srgbClr val="ffffff"/>
                </a:solidFill>
                <a:latin typeface="Comic Sans MS"/>
              </a:rPr>
              <a:t>(horské městečko s hradbami a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Comic Sans MS"/>
              </a:rPr>
              <a:t>                 </a:t>
            </a:r>
            <a:r>
              <a:rPr b="0" lang="cs-CZ" sz="2200" spc="-1" strike="noStrike">
                <a:solidFill>
                  <a:srgbClr val="ffffff"/>
                </a:solidFill>
                <a:latin typeface="Comic Sans MS"/>
              </a:rPr>
              <a:t>aquaduktem, výroba sušené šunky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cs-CZ" sz="2200" spc="-1" strike="noStrike">
                <a:solidFill>
                  <a:srgbClr val="ffffff"/>
                </a:solidFill>
                <a:latin typeface="Comic Sans MS"/>
              </a:rPr>
              <a:t>Peňiscola</a:t>
            </a:r>
            <a:r>
              <a:rPr b="0" lang="cs-CZ" sz="2200" spc="-1" strike="noStrike">
                <a:solidFill>
                  <a:srgbClr val="ffffff"/>
                </a:solidFill>
                <a:latin typeface="Comic Sans MS"/>
              </a:rPr>
              <a:t> (hrad a moderní středomořské středisko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Comic Sans MS"/>
              </a:rPr>
              <a:t>                   </a:t>
            </a:r>
            <a:r>
              <a:rPr b="0" lang="cs-CZ" sz="2200" spc="-1" strike="noStrike">
                <a:solidFill>
                  <a:srgbClr val="ffffff"/>
                </a:solidFill>
                <a:latin typeface="Comic Sans MS"/>
              </a:rPr>
              <a:t>Vigo (největší španělský přístav na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Comic Sans MS"/>
              </a:rPr>
              <a:t>                   </a:t>
            </a:r>
            <a:r>
              <a:rPr b="0" lang="cs-CZ" sz="2200" spc="-1" strike="noStrike">
                <a:solidFill>
                  <a:srgbClr val="ffffff"/>
                </a:solidFill>
                <a:latin typeface="Comic Sans MS"/>
              </a:rPr>
              <a:t>atlantickém pobřeží)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cs-CZ" sz="2200" spc="-1" strike="noStrike">
                <a:solidFill>
                  <a:srgbClr val="ffffff"/>
                </a:solidFill>
                <a:latin typeface="Comic Sans MS"/>
              </a:rPr>
              <a:t>Lyžování a horská turistika v Sierra Nevadě a Pyrenejíc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9900"/>
                </a:solidFill>
                <a:latin typeface="Comic Sans MS"/>
              </a:rPr>
              <a:t>  </a:t>
            </a:r>
            <a:r>
              <a:rPr b="1" lang="cs-CZ" sz="2400" spc="-1" strike="noStrike">
                <a:solidFill>
                  <a:srgbClr val="ffffff"/>
                </a:solidFill>
                <a:latin typeface="Comic Sans MS"/>
              </a:rPr>
              <a:t>Příroda: Badlands – vysušené a neplodné územ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omic Sans MS"/>
              </a:rPr>
              <a:t>                                  </a:t>
            </a:r>
            <a:r>
              <a:rPr b="1" lang="cs-CZ" sz="2400" spc="-1" strike="noStrike">
                <a:solidFill>
                  <a:srgbClr val="ffffff"/>
                </a:solidFill>
                <a:latin typeface="Comic Sans MS"/>
              </a:rPr>
              <a:t>(JV Španělsk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cs-CZ" sz="2400" spc="-1" strike="noStrike">
                <a:solidFill>
                  <a:srgbClr val="ffffff"/>
                </a:solidFill>
                <a:latin typeface="Comic Sans MS"/>
              </a:rPr>
              <a:t>Národní park: Coto de Doñ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cs-CZ" sz="2400" spc="-1" strike="noStrike">
                <a:solidFill>
                  <a:srgbClr val="ffffff"/>
                </a:solidFill>
                <a:latin typeface="Comic Sans MS"/>
              </a:rPr>
              <a:t>Přírodní park. Cabo de G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676520" y="3048120"/>
            <a:ext cx="53719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FOTOGALER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nada - ALHAMB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illa - katedrá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042920" y="1663560"/>
            <a:ext cx="6624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ordo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50920" y="1843200"/>
            <a:ext cx="6481800" cy="45162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148360" y="404640"/>
            <a:ext cx="257796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agrada Familia v Barceloně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láš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3659400" cy="54896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356000" y="2492280"/>
            <a:ext cx="36734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dri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7353360" cy="55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ole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3419280" cy="45561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003640" y="1014480"/>
            <a:ext cx="395316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ypracovali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ichaela Maixner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Lucie Kotal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aniela Langr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driana Růžičk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arkéta Dyntar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ikola Ješin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Lucie Vítk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osef Dvořá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Comic Sans MS"/>
              </a:rPr>
              <a:t>POLOHA</a:t>
            </a:r>
            <a:br>
              <a:rPr sz="4000"/>
            </a:b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9° z.d. – 4°v.d. a 36° - 44°s.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Leží na Pyrenejském( Iberském ) poloostrově mezi Středozemním mořem a Atlantským oceán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ousedé: Francie, Portugalsko, Ando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Od Afriky odděleno Gibraltarským průliv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Náleží mu: Marocké osady Ceuta a Melli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Baleáry a Kanárské ostrov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ozloha: 504 782 km</a:t>
            </a:r>
            <a:r>
              <a:rPr b="1" lang="cs-CZ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élka hranic: 1 917k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élka pobřeží: 4 964k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Comic Sans MS"/>
              </a:rPr>
              <a:t>POVRCH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ůznorodý: Pyrene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ierra Nev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ierra Morena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Kantaberské pohoř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Nejvyšší hora: Pico de Aneto - 3404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Pico de Tide ( Kanárské ostrov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VODSTV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odní plocha – 5 240 km</a:t>
            </a:r>
            <a:r>
              <a:rPr b="1" lang="cs-CZ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Řeky: Tejo, Ebro, Duero, Guadalquiv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oře: Středozemní moř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Biskajský záliv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4360" y="3933720"/>
            <a:ext cx="3497040" cy="2332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716360" y="2637000"/>
            <a:ext cx="3276720" cy="28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PODNEBÍ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btropické klima ovlivňováno Středozemním moř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imy – mírné a léta chladn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rážky: od 200 mm na jihovýchodě po 3200 mm na severozápadě ročn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ih a východ má typicky středomořské klima s mírnou zimou a teplým suchým lé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438280" y="4952880"/>
            <a:ext cx="473256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Comic Sans MS"/>
              </a:rPr>
              <a:t>OBYVATELSTVO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Počet obyvatel – 40 282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Hustota zalidnění – 79,8 obyv/km</a:t>
            </a:r>
            <a:r>
              <a:rPr b="1" lang="cs-CZ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Národnostní složení:   Španělé – 7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Katalánci -17%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         Galicijci -6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Baskové -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Politické zřízení: konstituční monarchie (království)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Gramotnost: 97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Úřední jazyk: španělšt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Náboženství: katolíci-99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148360" y="4516560"/>
            <a:ext cx="330984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Comic Sans MS"/>
              </a:rPr>
              <a:t>Průmysl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Těžba: černé a hnědé uhlí, ropa, zemní plyn,železná ruda, měď, olovo, zinek, wolfram, rtuť, cí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Energetika(podíl elektráren)- tepelné- 57,7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jaderné – 28,2%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vodní – 12,1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ostatní – 1,9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Odvětví: chemický, strojírenský, potravinářský a hutnick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Odběratelské země: Francie, Něměcko, Itálie, Portugalsko, VB a U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Dodavatelské země: Francie, Německo, Itálie, VB, Nizozemsk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Dovoz: stroje, paliva, chemikálie, polotovary, potraviny, spotřební zbož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Vývoz: stroje, motorová vozidla, potraviny, spotřební zbož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Comic Sans MS"/>
              </a:rPr>
              <a:t>ZEMĚDĚLSTVÍ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klizeň: pšenice, oves, ječmen, žito, kukuřice, rýže, brambory, batáty, cukrová třtina, cukrová řepa, olivy, sója, slunečn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voce, zelenina, vinná ré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Chov: skot, ovce, kozy, prasata, drůbež, koně, os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írodní zdroje: dřevo, kůra korkového dub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403280" y="4302000"/>
            <a:ext cx="3429000" cy="2556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012000" y="4149720"/>
            <a:ext cx="2146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2:47:47Z</dcterms:created>
  <dc:creator>mkrbalova</dc:creator>
  <dc:description/>
  <dc:language>en-US</dc:language>
  <cp:lastModifiedBy>jpetera</cp:lastModifiedBy>
  <dcterms:modified xsi:type="dcterms:W3CDTF">2006-12-22T08:50:48Z</dcterms:modified>
  <cp:revision>19</cp:revision>
  <dc:subject/>
  <dc:title>Španělsko</dc:title>
</cp:coreProperties>
</file>